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DEAB-A334-4E09-8866-DE7295F4A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E15B-5D74-41B5-AA26-B4D063C9E9CF}" type="slidenum">
              <a:rPr b="0" lang="en-US" sz="1200" spc="-1" strike="noStrike">
                <a:solidFill>
                  <a:srgbClr val="b3b3b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17B8-9A40-45E4-BE4D-C2000B1AA481}" type="slidenum">
              <a:rPr b="0" lang="en-US" sz="1200" spc="-1" strike="noStrike">
                <a:solidFill>
                  <a:srgbClr val="b3b3b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4267-6E4A-4EC4-875E-6B6858E0C7DA}" type="slidenum">
              <a:rPr b="0" lang="en-US" sz="1200" spc="-1" strike="noStrike">
                <a:solidFill>
                  <a:srgbClr val="b3b3b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E4F0-3FD7-49CC-A863-37B15ACCB363}" type="slidenum">
              <a:rPr b="0" lang="en-US" sz="1200" spc="-1" strike="noStrike">
                <a:solidFill>
                  <a:srgbClr val="b3b3b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EE52-B1FF-4F15-89EB-47B65FA8E1FE}" type="slidenum">
              <a:rPr b="0" lang="en-US" sz="1200" spc="-1" strike="noStrike">
                <a:solidFill>
                  <a:srgbClr val="b3b3b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0D82-B356-42D1-9F35-0AD7233C3B51}" type="slidenum">
              <a:rPr b="0" lang="en-US" sz="1200" spc="-1" strike="noStrike">
                <a:solidFill>
                  <a:srgbClr val="b3b3b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CC8-0165-422B-B0DB-52370528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519-B08A-433E-B575-D9F28684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551-3E2A-4573-AB49-61DC97D5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C0D-34DA-4889-9845-3DF3828C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AF34-2C48-4ECC-8172-3A5BD345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3ABD-122D-460F-97D0-41999DDD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E326-5253-49AE-AADF-779A0E1E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FC5B-794D-4633-9806-EBED2858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5F90-C62F-4D15-9C9E-70C53FFE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39DE-50DE-44B4-BFCD-3BBA7981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69AB-9ED4-4A74-BAFB-ED4E82A7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56B-DC76-431F-90C5-A3FB02F2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B449-28C8-4107-84F1-90AE2BAC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65C7-3555-452E-9899-5DF3785D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93AC-4608-4EC5-9AE9-A6B24A97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5FCD-A575-4127-92F9-44C276F5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6A66-41AF-4B84-8DF6-14BF2C8D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6B4-CFEC-4CB3-80CC-B5D04FDE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A56-2740-4A72-8257-6725179A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4CE-BEF7-47CF-819B-DF03AFBD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563-349C-4F67-AC72-878A6295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CE5-2A68-44F1-B31E-6E8E7717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EFE-6C92-484C-A044-5A85AF4A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3B9-FF51-461B-A55D-8CD19F11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jellyfishsmall"/>
          <p:cNvPicPr/>
          <p:nvPr/>
        </p:nvPicPr>
        <p:blipFill>
          <a:blip r:embed="rId2"/>
          <a:srcRect l="12136" t="19398" r="47694" b="0"/>
          <a:stretch/>
        </p:blipFill>
        <p:spPr>
          <a:xfrm>
            <a:off x="6515280" y="3200400"/>
            <a:ext cx="2628720" cy="35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1797-75A7-4294-88C5-6242B72D2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jellyfish"/>
          <p:cNvPicPr/>
          <p:nvPr/>
        </p:nvPicPr>
        <p:blipFill>
          <a:blip r:embed="rId2"/>
          <a:srcRect l="0" t="0" r="10933" b="0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3b3b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1C4D-6739-4E16-BA39-DF7509A7F368}" type="slidenum">
              <a:rPr b="0" lang="en-US" sz="1400" spc="-1" strike="noStrike">
                <a:solidFill>
                  <a:srgbClr val="b3b3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Variables and Expressions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95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Lesson 2-2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38080" y="1752480"/>
            <a:ext cx="7543800" cy="13816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b3b3b3"/>
                </a:solidFill>
                <a:latin typeface="Times New Roman"/>
              </a:rPr>
              <a:t>numerical expression </a:t>
            </a: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is a mathematical phrase with only numbers and operation symbols (+,  -,  x,  ÷).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Example: 8 + 5 - 2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38080" y="3429000"/>
            <a:ext cx="7543800" cy="8254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b3b3b3"/>
                </a:solidFill>
                <a:latin typeface="Times New Roman"/>
              </a:rPr>
              <a:t> algebraic expression </a:t>
            </a: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 is a mathematical phrase that contains a </a:t>
            </a:r>
            <a:r>
              <a:rPr b="0" lang="en-US" sz="2400" spc="-1" strike="noStrike" u="sng">
                <a:solidFill>
                  <a:srgbClr val="b3b3b3"/>
                </a:solidFill>
                <a:uFillTx/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 and operation symbols.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38080" y="4724280"/>
            <a:ext cx="7543800" cy="13816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b3b3b3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 is a symbol (usually a letter) that stands for a number.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Algebraic expression:  5y + 2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valuating Numerical Expressions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82600" y="201780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Use PEMDAS (order of operations)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905120" y="27432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84 – 10 ÷</a:t>
            </a:r>
            <a:r>
              <a:rPr b="0" lang="en-US" sz="6600" spc="-1" strike="noStrike">
                <a:solidFill>
                  <a:srgbClr val="b3b3b3"/>
                </a:solidFill>
                <a:latin typeface="MS Shell Dlg"/>
              </a:rPr>
              <a:t> 2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895480" y="380988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84 – 5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505320" y="487692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79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valuating Algebraic Expressions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Replace the variable with the value that you are given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Now we have a numerical expression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olve using order of operations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xample: Evaluate 2b-8 for b=11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8120" y="16765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2b-8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438280" y="2743200"/>
            <a:ext cx="312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2(11)-8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867280" y="3048120"/>
            <a:ext cx="2971800" cy="8254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Substitute the 11 for the variable.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867280" y="4114800"/>
            <a:ext cx="2971800" cy="8254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Multiplying comes before subtracting.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514600" y="396252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22 - 8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200400" y="49528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14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xample 2: Evaluate 5x-y for x=12 and y=14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76720" y="205740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5x-y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819520" y="304812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5(12) - 14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971800" y="426708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60 - 14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733920" y="53341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46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2:40:21Z</dcterms:created>
  <dc:creator>Josh Hammond</dc:creator>
  <dc:description/>
  <dc:language>en-US</dc:language>
  <cp:lastModifiedBy>Home</cp:lastModifiedBy>
  <dcterms:modified xsi:type="dcterms:W3CDTF">2010-11-14T17:21:43Z</dcterms:modified>
  <cp:revision>13</cp:revision>
  <dc:subject/>
  <dc:title>Variables and Expressions</dc:title>
</cp:coreProperties>
</file>